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16C-83EF-42A8-9D25-2571EB10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761-7EB5-4929-8B50-03D1A344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A9F-726D-4BC3-9BC5-2BD9C40C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AF3-943E-4752-9C3D-468C9278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6A8-C0A0-4F17-96EE-1697EB4C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839-EBFD-480E-B920-86484F9C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BAC-0F64-4C8F-AFCB-736B1D4B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9BC-A840-4A99-B19F-8951DC37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2E0-D33E-45CF-BB26-8A1D573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E55-037F-462A-8C81-4F52A41B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40F-34C2-4CCC-9C24-6C7BB98A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4A7-198B-4970-9D8C-0A9B47C2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ED61-ED6D-4FFF-80A3-9495B56B0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9630" t="38724" r="0" b="4033"/>
          <a:stretch/>
        </p:blipFill>
        <p:spPr>
          <a:xfrm>
            <a:off x="0" y="1371600"/>
            <a:ext cx="9144000" cy="408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57913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556272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 Fu Lam to Korean International School of Hong K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.4 mi _ about 21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02:10Z</dcterms:created>
  <dc:creator>student305</dc:creator>
  <dc:description/>
  <dc:language>en-US</dc:language>
  <cp:lastModifiedBy>student305</cp:lastModifiedBy>
  <dcterms:modified xsi:type="dcterms:W3CDTF">2010-03-23T05:23:26Z</dcterms:modified>
  <cp:revision>3</cp:revision>
  <dc:subject/>
  <dc:title>Route Map</dc:title>
</cp:coreProperties>
</file>